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A5E-3955-466A-8689-EB55A997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796-5724-4CA0-9F48-652A24C7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96EA-7AB8-4639-9317-40328DDA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5B1-76B5-4BCF-BFAF-A0184B42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9EE9-5825-4CFD-B94B-E2980634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B75E-3FD0-414F-8E2C-12EEAED7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7557-8F8E-4459-B723-6CFE70C6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12D6-9AD2-4BD8-8B92-CBD27985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7B73-6C30-4507-981E-686E0AEA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C0F6-EFAD-4702-93EF-E5F84107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9F55-892B-4A0E-A4CF-355964F5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EBD-57E7-4228-9114-2B067E64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FE76-EB9D-41FC-875F-05B0B4C7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0DF0-139C-43C7-B401-1F59B665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B532-E12B-4DCC-82D4-AF353A4D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AE55-C9C7-4D07-B6A5-C3E46D87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A5EB-CFB8-4AB2-B4FE-8591F980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05E3F-F982-4B9B-A268-A79AEC5B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4F3FC-B423-449F-B308-17A04603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BAEAF-E8FC-4C5D-BC37-1C67478C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A423-513B-40D8-A814-362E91EB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ECF01-4B0F-4554-B829-34197F4B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859-4697-4497-B8D0-7BB55E09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247C7-5B0F-4522-900F-F2175024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9ACB-084D-4FF3-8AA5-B2700185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14C67-7295-4643-8617-A5C5E340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1773-EBEB-4767-9FC6-770872BD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E54B8-B5A6-4EFA-8C7E-983182C7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92A9E-7AC4-424C-AF14-B41FD1D7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184FC-756B-4357-AA75-F23CFB2D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934A9-DEE2-401A-8C29-E42FFCA8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E517B-692C-4623-8803-010BE705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0E15C-0BAC-4151-B8E0-E05E8007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C5F-D89C-45D9-BAA2-7BE24252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15A2A-7CBC-4404-B2D7-67DF10EA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AECE8-26DA-435B-8E16-BA0ED5A3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60514-B28E-4EFF-9B3A-90F462EE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73ADD-FA9D-4C70-B33A-A95F0FA9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78FCB-F439-4C97-90D4-04C794A5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FB18D-8755-4388-A3C5-5F9C0E88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4C115-B241-4050-87A2-4E2C238B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5DD6C-9886-44D9-BA5F-96007754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60D10-FF79-4DBB-9227-743DCF72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B3B58-A4C3-40C0-94AD-E465B2E8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B9F-8B39-41DA-AFF9-FE079AEA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34F31-5DBD-4BF4-B314-753EC217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C9B13-26A2-4588-B93D-2531D294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800C3-39F9-4825-8215-DD3EC295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4DA0B-2063-4B85-81CD-C78391DD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AFC5D-0773-4D39-941B-A06B6102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62474-64FC-418F-AA7E-E62D240C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91E08-5F2A-40B1-A326-CC45EA7C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1AFC5-F2F5-4A7A-AAE0-7B9606D4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2EFDC-EF59-437B-ADD7-85D20216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151BC-3F00-4797-9DE2-735FAB29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E85-7FF5-4D6A-814D-88BBA7D6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5F9EB-F5C0-4F97-B749-38AA470A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944-121B-4A13-A0F7-8BE96C37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48E-99FF-407C-9E21-F7E129AE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2EA-DD8A-477B-B43A-8C100D59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736E-2C73-4F5A-A775-23C3F8B6150C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4F2C-2CDF-41A9-98B4-DAE3FEAD7DAC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C24E-B0A0-485C-881F-F8EED046A6A9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1478-EB2C-4307-BA78-4616F6421A56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815A-7BD9-4194-8814-59205B29FF03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2840" y="2127240"/>
            <a:ext cx="4608360" cy="1835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Mihalcea Cezar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Un ordinateur est une machine électronique qui fonctionne par la lecture séquentielle d'un ensemble d'instructions qui lui font exécuter des opérations logiques et arithmétiques sur des chiffres binair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La technique actuelle des ordinateurs date du milieu du XX siècl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2146320" y="3676680"/>
            <a:ext cx="463860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1: Écran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2: Carte mè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3: Processeur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4: Parallel AT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5: Mémoire vive (RAM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6: Cartes d'extensio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7: Alimentation électriqu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8: Lecteur de disque optiqu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9: Disque dur, disque électroniqu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10: Clavier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11: Souri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4913280" y="1616040"/>
            <a:ext cx="38656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  </a:t>
            </a: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Une algorithme est une suite finie et non-ambiguë d’opérations ou d'instructions permettant de résoudre un problèm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  </a:t>
            </a: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On mesure l'efficacité d'une algorithme notamment par sa durée de calcul, par sa consommation de mémoire RAM, par la précision des résultats obtenus, sa scalabilité etc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2"/>
          <a:stretch/>
        </p:blipFill>
        <p:spPr>
          <a:xfrm>
            <a:off x="4608360" y="2000160"/>
            <a:ext cx="422460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495320" y="17521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  </a:t>
            </a: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L'internet est un système d'interconnexion de machines et constitue un réseau informatique mondial, utilisant un ensemble standardisé de protocoles de transfert de données.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  </a:t>
            </a: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Il transporte un large spectre d'information et permet l'élaboration d'applications et de services variés comme le courrier électronique, la messagerie instantanée et le World Wide Web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341280" y="2610000"/>
            <a:ext cx="39560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463680" y="1146240"/>
            <a:ext cx="8296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7:50:41Z</dcterms:created>
  <dc:creator>Cezar</dc:creator>
  <dc:description/>
  <dc:language>en-US</dc:language>
  <cp:lastModifiedBy>Cezar</cp:lastModifiedBy>
  <dcterms:modified xsi:type="dcterms:W3CDTF">2012-12-03T20:05:10Z</dcterms:modified>
  <cp:revision>20</cp:revision>
  <dc:subject/>
  <dc:title>L’INFORMATIQUE</dc:title>
</cp:coreProperties>
</file>